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8.jpeg" ContentType="image/jpeg"/>
  <Override PartName="/ppt/media/image44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4824-2FE4-4A63-8030-C0496524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65C2-B286-44A7-9D77-84D38BB6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93B6-CE6D-4689-9532-1BF1B88B6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C44-0BF5-4939-94B0-B3E0CFFE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F07-AF97-4636-AA13-338445742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9DE4-D2A4-412F-9A31-768514997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DCD-DD3C-4A6F-9679-5E3D4F6F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DF7-1CFF-4050-A779-1766FA66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6F17-703E-44F1-BB0E-A0BCDB2D5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02BA-2CBD-4F74-B3F5-46B3FAE4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8CD8-9131-42BE-950F-DC576EC44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526A-4FE2-4D39-BFC0-5777E474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A1E0-4A38-4584-8457-DE6E9A4B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8ED-4A4C-4495-A068-E2BCB338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C7A-06C1-4DF1-A60C-F616B68F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58E-74A1-40CB-A804-9BA32C5B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2593-5DB2-4992-8074-0B463FCE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CA9-3336-41FA-8060-8FB411D2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A82-74F3-4613-BDBA-BC52771A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26D-8598-41A7-8FA6-F2C73582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1B3-5A7E-4797-8BD8-9952D2FA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B44-6BA5-4B17-A203-912347C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F3E-3114-4838-B8BC-88E198DC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949-7A38-4ABB-899E-F4B1FE60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F0F-D8A0-44E1-B1E4-7BFA584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58B-C20D-4661-9D1B-77FE95DA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B59-4CF3-4735-938A-036642B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D72A-6C58-4674-9D45-A78FDA86D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upload.wikimedia.org/wikipedia/commons/3/31/StBasile_SpasskayaTower_Red_Square_Moscow.hires.jpg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images.search.yahoo.com/search/%20http:/images.search.yahoo.com/search/images/view?back=http%3A%2F%2Fimages.search.yahoo.com%2Fsearch%2Fimages%3Fei%3DUTF-8%26p%3Drussia%26fr2%3Dtab-web%26fr%3Dyfp-t-501&amp;w=256&amp;h=341&amp;imgurl=www.rome.ro%2Fimages%2FNews%2Fsm_russia_cathedral.jpg&amp;rurl=http%3A%2F%2Fwww.adr.ro%2Fsearch.files.php%3Fq%3Drussia&amp;size=81.8kB&amp;name=sm_russia_cathedral.jpg&amp;p=russia&amp;type=jpeg&amp;no=8&amp;tt=3,135,182&amp;oid=378290679ee9e882&amp;ei=UTF-8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images.search.yahoo.com/search/%20http:/images.search.yahoo.com/search/images/view?back=http%3A%2F%2Fimages.search.yahoo.com%2Fsearch%2Fimages%3Fei%3DUTF-8%26p%3Drussia%26fr2%3Dtab-web%26fr%3Dyfp-t-501&amp;w=438&amp;h=331&amp;imgurl=archives.cnn.com%2F1999%2FWORLD%2Feurope%2F12%2F16%2Frussia.chechnya.02%2Fmap.mozdok.russia.jpg&amp;rurl=http%3A%2F%2Fwww.cnn.com%2F1999%2FWORLD%2Feurope%2F12%2F16%2Frussia.chechnya.02&amp;size=23.4kB&amp;name=map.mozdok.russia.jpg&amp;p=russia&amp;type=jpeg&amp;no=6&amp;tt=3,135,182&amp;oid=897c44bc8e3b62dc&amp;ei=UTF-8" TargetMode="Externa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hyperlink" Target="http://images.search.yahoo.com/search/%20http:/images.search.yahoo.com/search/images/view?back=http%3A%2F%2Fimages.search.yahoo.com%2Fsearch%2Fimages%3Fp%3Dindia%26ei%3DUTF-8%26fr%3Dyfp-t-501%26x%3Dwrt%26js%3D1%26ni%3D21&amp;w=450&amp;h=467&amp;imgurl=www.helpendehanden.info%2Findia%2Findia_natuurlijk.jpg&amp;rurl=http%3A%2F%2Fwww.helpendehanden.info%2Findia&amp;size=66.1kB&amp;name=india_natuurlijk.jpg&amp;p=india&amp;type=jpeg&amp;no=5&amp;tt=10,384,402&amp;oid=2cfa264ff4506730&amp;ei=UTF-8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search.yahoo.com/search/%20http:/images.search.yahoo.com/search/images/view?back=http%3A%2F%2Fimages.search.yahoo.com%2Fsearch%2Fimages%3Fp%3Dindia%26ei%3DUTF-8%26fr%3Dyfp-t-501%26x%3Dwrt%26js%3D1%26ni%3D21&amp;w=1024&amp;h=768&amp;imgurl=www.2112.net%2Fjcole%2FPictures%2F2001-4%2FIndia%2FIndia-Agra-Taj_Mahal-whole_structure_in_all_glory.jpg&amp;rurl=http%3A%2F%2Fwww.2112.net%2Fjcole%2FPictures%2F2001-4%2FIndia%3FD%3DA&amp;size=121.6kB&amp;name=India-Agra-Taj_Mahal-whole_structure_in_all_glory.jpg&amp;p=india&amp;type=jpeg&amp;no=1&amp;tt=10,384,402&amp;oid=808389ea05336450&amp;ei=UTF-8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x commerci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bject width="425" height="355"&gt;&lt;param name="movie" value="http://www.youtube.com/v/MeOkx0q1qFs&amp;rel=1"&gt;&lt;/param&gt;&lt;param name="wmode" value="transparent"&gt;&lt;/param&gt;&lt;embed src="http://www.youtube.com/v/MeOkx0q1qFs&amp;rel=1" type="application/x-shockwave-flash" wmode="transparent" width="425" height="355"&gt;&lt;/embed&gt;&lt;/obj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at"/>
          <p:cNvPicPr/>
          <p:nvPr/>
        </p:nvPicPr>
        <p:blipFill>
          <a:blip r:embed="rId1"/>
          <a:stretch/>
        </p:blipFill>
        <p:spPr>
          <a:xfrm>
            <a:off x="5257800" y="36576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YellowSea"/>
          <p:cNvPicPr/>
          <p:nvPr/>
        </p:nvPicPr>
        <p:blipFill>
          <a:blip r:embed="rId2"/>
          <a:stretch/>
        </p:blipFill>
        <p:spPr>
          <a:xfrm>
            <a:off x="-304920" y="2867040"/>
            <a:ext cx="5619960" cy="3990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hinam8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9"/>
          <p:cNvSpPr/>
          <p:nvPr/>
        </p:nvSpPr>
        <p:spPr>
          <a:xfrm>
            <a:off x="8153280" y="1295280"/>
            <a:ext cx="304920" cy="228600"/>
          </a:xfrm>
          <a:custGeom>
            <a:avLst/>
            <a:gdLst>
              <a:gd name="textAreaLeft" fmla="*/ 125640 w 304920"/>
              <a:gd name="textAreaRight" fmla="*/ 179280 w 30492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304920" y="228600"/>
            <a:ext cx="3733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erlin Sans FB"/>
              </a:rPr>
              <a:t>Yellow Se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erlin Sans FB"/>
              <a:ea typeface="Berlin Sans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ouse-on-plateau"/>
          <p:cNvPicPr/>
          <p:nvPr/>
        </p:nvPicPr>
        <p:blipFill>
          <a:blip r:embed="rId2"/>
          <a:stretch/>
        </p:blipFill>
        <p:spPr>
          <a:xfrm>
            <a:off x="0" y="2828880"/>
            <a:ext cx="6019920" cy="40291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7"/>
          <p:cNvSpPr txBox="1"/>
          <p:nvPr/>
        </p:nvSpPr>
        <p:spPr>
          <a:xfrm>
            <a:off x="6095880" y="4495680"/>
            <a:ext cx="2743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uice ITC"/>
              </a:rPr>
              <a:t>Plateau of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uice ITC"/>
              <a:ea typeface="Juice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uice ITC"/>
              </a:rPr>
              <a:t>Tibe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uice ITC"/>
              <a:ea typeface="Juice ITC"/>
            </a:endParaRPr>
          </a:p>
        </p:txBody>
      </p:sp>
      <p:pic>
        <p:nvPicPr>
          <p:cNvPr id="116" name="Picture 9" descr="tibetain-plateau-3kids"/>
          <p:cNvPicPr/>
          <p:nvPr/>
        </p:nvPicPr>
        <p:blipFill>
          <a:blip r:embed="rId3"/>
          <a:stretch/>
        </p:blipFill>
        <p:spPr>
          <a:xfrm>
            <a:off x="0" y="0"/>
            <a:ext cx="4533840" cy="30384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/>
          <p:cNvSpPr/>
          <p:nvPr/>
        </p:nvSpPr>
        <p:spPr>
          <a:xfrm>
            <a:off x="5257800" y="1676520"/>
            <a:ext cx="838080" cy="380880"/>
          </a:xfrm>
          <a:custGeom>
            <a:avLst/>
            <a:gdLst>
              <a:gd name="textAreaLeft" fmla="*/ 345240 w 838080"/>
              <a:gd name="textAreaRight" fmla="*/ 492840 w 8380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9129S"/>
          <p:cNvPicPr/>
          <p:nvPr/>
        </p:nvPicPr>
        <p:blipFill>
          <a:blip r:embed="rId2"/>
          <a:stretch/>
        </p:blipFill>
        <p:spPr>
          <a:xfrm>
            <a:off x="0" y="0"/>
            <a:ext cx="4452840" cy="333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46-beijing-city-bicycles"/>
          <p:cNvPicPr/>
          <p:nvPr/>
        </p:nvPicPr>
        <p:blipFill>
          <a:blip r:embed="rId3"/>
          <a:stretch/>
        </p:blipFill>
        <p:spPr>
          <a:xfrm>
            <a:off x="0" y="3608280"/>
            <a:ext cx="4876920" cy="3249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0"/>
          <p:cNvSpPr txBox="1"/>
          <p:nvPr/>
        </p:nvSpPr>
        <p:spPr>
          <a:xfrm>
            <a:off x="5410080" y="2666880"/>
            <a:ext cx="3281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Harlow Solid Italic"/>
              </a:rPr>
              <a:t>Beij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Harlow Solid Italic"/>
              <a:ea typeface="Harlow Solid Italic"/>
            </a:endParaRPr>
          </a:p>
        </p:txBody>
      </p:sp>
      <p:pic>
        <p:nvPicPr>
          <p:cNvPr id="122" name="Picture 12" descr="HPIM0172"/>
          <p:cNvPicPr/>
          <p:nvPr/>
        </p:nvPicPr>
        <p:blipFill>
          <a:blip r:embed="rId4"/>
          <a:stretch/>
        </p:blipFill>
        <p:spPr>
          <a:xfrm>
            <a:off x="5410080" y="4476600"/>
            <a:ext cx="3333960" cy="23814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848720" y="1295280"/>
            <a:ext cx="228600" cy="2286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5"/>
          <p:cNvSpPr/>
          <p:nvPr/>
        </p:nvSpPr>
        <p:spPr>
          <a:xfrm>
            <a:off x="8686800" y="198108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8305920" y="2743200"/>
            <a:ext cx="457200" cy="304920"/>
          </a:xfrm>
          <a:custGeom>
            <a:avLst/>
            <a:gdLst>
              <a:gd name="textAreaLeft" fmla="*/ 188280 w 457200"/>
              <a:gd name="textAreaRight" fmla="*/ 268920 w 4572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4952880" y="3962520"/>
            <a:ext cx="3886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East and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gency FB"/>
              </a:rPr>
              <a:t>South China Sea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28" name="Picture 9" descr="IMG_0542"/>
          <p:cNvPicPr/>
          <p:nvPr/>
        </p:nvPicPr>
        <p:blipFill>
          <a:blip r:embed="rId2"/>
          <a:stretch/>
        </p:blipFill>
        <p:spPr>
          <a:xfrm>
            <a:off x="380880" y="0"/>
            <a:ext cx="3962520" cy="2978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IH093636~Sunset-Over-the-South-China-Sea-Posters"/>
          <p:cNvPicPr/>
          <p:nvPr/>
        </p:nvPicPr>
        <p:blipFill>
          <a:blip r:embed="rId3"/>
          <a:stretch/>
        </p:blipFill>
        <p:spPr>
          <a:xfrm>
            <a:off x="914400" y="2809800"/>
            <a:ext cx="3067200" cy="40482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4"/>
          <p:cNvSpPr/>
          <p:nvPr/>
        </p:nvSpPr>
        <p:spPr>
          <a:xfrm>
            <a:off x="6172200" y="304920"/>
            <a:ext cx="1295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2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desert%20view"/>
          <p:cNvPicPr/>
          <p:nvPr/>
        </p:nvPicPr>
        <p:blipFill>
          <a:blip r:embed="rId2"/>
          <a:stretch/>
        </p:blipFill>
        <p:spPr>
          <a:xfrm>
            <a:off x="0" y="0"/>
            <a:ext cx="4572000" cy="302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Stupas used as poles to carry electrical wiring, Taklimakan Desert- Xinjiang Uygur, China."/>
          <p:cNvPicPr/>
          <p:nvPr/>
        </p:nvPicPr>
        <p:blipFill>
          <a:blip r:embed="rId3"/>
          <a:stretch/>
        </p:blipFill>
        <p:spPr>
          <a:xfrm>
            <a:off x="3886200" y="3505320"/>
            <a:ext cx="5257800" cy="333504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0" y="3962520"/>
            <a:ext cx="44197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Taklimaka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Dese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4952880" y="1295280"/>
            <a:ext cx="685800" cy="457200"/>
          </a:xfrm>
          <a:custGeom>
            <a:avLst/>
            <a:gdLst>
              <a:gd name="textAreaLeft" fmla="*/ 282600 w 685800"/>
              <a:gd name="textAreaRight" fmla="*/ 403200 w 6858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3"/>
          <p:cNvSpPr/>
          <p:nvPr/>
        </p:nvSpPr>
        <p:spPr>
          <a:xfrm>
            <a:off x="6400800" y="533520"/>
            <a:ext cx="990720" cy="761760"/>
          </a:xfrm>
          <a:custGeom>
            <a:avLst/>
            <a:gdLst>
              <a:gd name="textAreaLeft" fmla="*/ 408240 w 990720"/>
              <a:gd name="textAreaRight" fmla="*/ 582480 w 990720"/>
              <a:gd name="textAreaTop" fmla="*/ 313920 h 761760"/>
              <a:gd name="textAreaBottom" fmla="*/ 4478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mongolia-reches-200408-155"/>
          <p:cNvPicPr/>
          <p:nvPr/>
        </p:nvPicPr>
        <p:blipFill>
          <a:blip r:embed="rId2"/>
          <a:stretch/>
        </p:blipFill>
        <p:spPr>
          <a:xfrm>
            <a:off x="0" y="1828800"/>
            <a:ext cx="3772080" cy="502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mongolia_wideweb__430x289,0"/>
          <p:cNvPicPr/>
          <p:nvPr/>
        </p:nvPicPr>
        <p:blipFill>
          <a:blip r:embed="rId3"/>
          <a:stretch/>
        </p:blipFill>
        <p:spPr>
          <a:xfrm>
            <a:off x="457200" y="0"/>
            <a:ext cx="2733840" cy="1836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mongolia-reches-200408-089"/>
          <p:cNvPicPr/>
          <p:nvPr/>
        </p:nvPicPr>
        <p:blipFill>
          <a:blip r:embed="rId4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4"/>
          <p:cNvSpPr txBox="1"/>
          <p:nvPr/>
        </p:nvSpPr>
        <p:spPr>
          <a:xfrm>
            <a:off x="2971800" y="3809880"/>
            <a:ext cx="3181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Ravie"/>
              </a:rPr>
              <a:t>Mongol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Ravie"/>
              <a:ea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13_16-42_shanghai_skyline"/>
          <p:cNvPicPr/>
          <p:nvPr/>
        </p:nvPicPr>
        <p:blipFill>
          <a:blip r:embed="rId2"/>
          <a:stretch/>
        </p:blipFill>
        <p:spPr>
          <a:xfrm>
            <a:off x="4129200" y="3355920"/>
            <a:ext cx="5014800" cy="3502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shanghai_pudong2"/>
          <p:cNvPicPr/>
          <p:nvPr/>
        </p:nvPicPr>
        <p:blipFill>
          <a:blip r:embed="rId3"/>
          <a:stretch/>
        </p:blipFill>
        <p:spPr>
          <a:xfrm>
            <a:off x="0" y="0"/>
            <a:ext cx="510552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creenshot"/>
          <p:cNvPicPr/>
          <p:nvPr/>
        </p:nvPicPr>
        <p:blipFill>
          <a:blip r:embed="rId4"/>
          <a:stretch/>
        </p:blipFill>
        <p:spPr>
          <a:xfrm>
            <a:off x="914400" y="41148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WordArt 9"/>
          <p:cNvSpPr txBox="1"/>
          <p:nvPr/>
        </p:nvSpPr>
        <p:spPr>
          <a:xfrm>
            <a:off x="5410080" y="259092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ell MT"/>
              </a:rPr>
              <a:t>Shangha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ell MT"/>
              <a:ea typeface="Bell MT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8077320" y="1905120"/>
            <a:ext cx="228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Great Wall Map"/>
          <p:cNvPicPr/>
          <p:nvPr/>
        </p:nvPicPr>
        <p:blipFill>
          <a:blip r:embed="rId1"/>
          <a:stretch/>
        </p:blipFill>
        <p:spPr>
          <a:xfrm>
            <a:off x="3200400" y="0"/>
            <a:ext cx="5738760" cy="3898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Visitors climbed the staircases paved with big blocks of stones under the help of handrail."/>
          <p:cNvPicPr/>
          <p:nvPr/>
        </p:nvPicPr>
        <p:blipFill>
          <a:blip r:embed="rId2"/>
          <a:stretch/>
        </p:blipFill>
        <p:spPr>
          <a:xfrm>
            <a:off x="228600" y="2743200"/>
            <a:ext cx="2695680" cy="380988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457200" y="609480"/>
            <a:ext cx="2209680" cy="159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Grea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0"/>
          <p:cNvSpPr txBox="1"/>
          <p:nvPr/>
        </p:nvSpPr>
        <p:spPr>
          <a:xfrm>
            <a:off x="3352680" y="4114800"/>
            <a:ext cx="5334120" cy="24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all of Chin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:GreatWall 2004 Summer 4.jpg"/>
          <p:cNvPicPr/>
          <p:nvPr/>
        </p:nvPicPr>
        <p:blipFill>
          <a:blip r:embed="rId1"/>
          <a:stretch/>
        </p:blipFill>
        <p:spPr>
          <a:xfrm>
            <a:off x="3809880" y="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www.theodora.com/wfb/photos/china/great_wall_china_photo_gov_2.jpg"/>
          <p:cNvPicPr/>
          <p:nvPr/>
        </p:nvPicPr>
        <p:blipFill>
          <a:blip r:embed="rId2"/>
          <a:stretch/>
        </p:blipFill>
        <p:spPr>
          <a:xfrm>
            <a:off x="380880" y="2543040"/>
            <a:ext cx="3048120" cy="4314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http://www.theodora.com/wfb/photos/china/great_wall_china_photo_gov.jpg"/>
          <p:cNvPicPr/>
          <p:nvPr/>
        </p:nvPicPr>
        <p:blipFill>
          <a:blip r:embed="rId3"/>
          <a:stretch/>
        </p:blipFill>
        <p:spPr>
          <a:xfrm>
            <a:off x="3841920" y="3657600"/>
            <a:ext cx="485424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Watch towers on the Great Wall of China Simatai - walk the great wall."/>
          <p:cNvPicPr/>
          <p:nvPr/>
        </p:nvPicPr>
        <p:blipFill>
          <a:blip r:embed="rId4"/>
          <a:stretch/>
        </p:blipFill>
        <p:spPr>
          <a:xfrm>
            <a:off x="990720" y="19080"/>
            <a:ext cx="1981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6666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overed with a blanket of white snow, the Great Wall becomes more quiet and harmonious."/>
          <p:cNvPicPr/>
          <p:nvPr/>
        </p:nvPicPr>
        <p:blipFill>
          <a:blip r:embed="rId1"/>
          <a:stretch/>
        </p:blipFill>
        <p:spPr>
          <a:xfrm>
            <a:off x="0" y="3300480"/>
            <a:ext cx="5029200" cy="355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s the most typical Chinese architecture, the Forbidden City¡¯s symmetric architectural style reflects the Chinese philosphophy."/>
          <p:cNvPicPr/>
          <p:nvPr/>
        </p:nvPicPr>
        <p:blipFill>
          <a:blip r:embed="rId2"/>
          <a:stretch/>
        </p:blipFill>
        <p:spPr>
          <a:xfrm>
            <a:off x="4876920" y="457200"/>
            <a:ext cx="426708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380880" y="228600"/>
            <a:ext cx="4276800" cy="24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Geograph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of Chin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53" name="Picture 9" descr="2005Yangtze-river-1_lg"/>
          <p:cNvPicPr/>
          <p:nvPr/>
        </p:nvPicPr>
        <p:blipFill>
          <a:blip r:embed="rId7"/>
          <a:stretch/>
        </p:blipFill>
        <p:spPr>
          <a:xfrm>
            <a:off x="5181480" y="3962520"/>
            <a:ext cx="39625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hinam8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57" name="5-Point Star 4"/>
          <p:cNvSpPr/>
          <p:nvPr/>
        </p:nvSpPr>
        <p:spPr>
          <a:xfrm>
            <a:off x="6172200" y="0"/>
            <a:ext cx="1523880" cy="380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-Point Star 5"/>
          <p:cNvSpPr/>
          <p:nvPr/>
        </p:nvSpPr>
        <p:spPr>
          <a:xfrm>
            <a:off x="4724280" y="0"/>
            <a:ext cx="1143000" cy="3808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Rectangle 6" descr=""/>
          <p:cNvPicPr/>
          <p:nvPr/>
        </p:nvPicPr>
        <p:blipFill>
          <a:blip r:embed="rId3"/>
          <a:stretch/>
        </p:blipFill>
        <p:spPr>
          <a:xfrm>
            <a:off x="-12600" y="189000"/>
            <a:ext cx="3975120" cy="1463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Image:StBasile SpasskayaTower Red Square Moscow.hires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3048120"/>
            <a:ext cx="464652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3733920"/>
            <a:ext cx="1904760" cy="2546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83560" y="4419720"/>
            <a:ext cx="21463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hinam8"/>
          <p:cNvPicPr/>
          <p:nvPr/>
        </p:nvPicPr>
        <p:blipFill>
          <a:blip r:embed="rId1"/>
          <a:stretch/>
        </p:blipFill>
        <p:spPr>
          <a:xfrm>
            <a:off x="3733920" y="0"/>
            <a:ext cx="5195880" cy="3745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2"/>
          <a:stretch/>
        </p:blipFill>
        <p:spPr>
          <a:xfrm>
            <a:off x="378000" y="457200"/>
            <a:ext cx="30780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33720" y="2819520"/>
            <a:ext cx="3429000" cy="358272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6"/>
          <p:cNvSpPr/>
          <p:nvPr/>
        </p:nvSpPr>
        <p:spPr>
          <a:xfrm rot="18450000">
            <a:off x="5187600" y="1504800"/>
            <a:ext cx="1981440" cy="6094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o to fullsize image"/>
          <p:cNvPicPr/>
          <p:nvPr/>
        </p:nvPicPr>
        <p:blipFill>
          <a:blip r:embed="rId7"/>
          <a:stretch/>
        </p:blipFill>
        <p:spPr>
          <a:xfrm>
            <a:off x="152280" y="3970440"/>
            <a:ext cx="1752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bruce14"/>
          <p:cNvPicPr/>
          <p:nvPr/>
        </p:nvPicPr>
        <p:blipFill>
          <a:blip r:embed="rId2"/>
          <a:stretch/>
        </p:blipFill>
        <p:spPr>
          <a:xfrm>
            <a:off x="4800600" y="3720960"/>
            <a:ext cx="4343400" cy="313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pyellow"/>
          <p:cNvPicPr/>
          <p:nvPr/>
        </p:nvPicPr>
        <p:blipFill>
          <a:blip r:embed="rId3"/>
          <a:stretch/>
        </p:blipFill>
        <p:spPr>
          <a:xfrm>
            <a:off x="0" y="3200400"/>
            <a:ext cx="4724280" cy="3657600"/>
          </a:xfrm>
          <a:prstGeom prst="rect">
            <a:avLst/>
          </a:prstGeom>
          <a:ln w="0">
            <a:noFill/>
          </a:ln>
        </p:spPr>
      </p:pic>
      <p:sp>
        <p:nvSpPr>
          <p:cNvPr id="73" name="WordArt 9"/>
          <p:cNvSpPr txBox="1"/>
          <p:nvPr/>
        </p:nvSpPr>
        <p:spPr>
          <a:xfrm>
            <a:off x="152280" y="609480"/>
            <a:ext cx="4114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Yellow River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74" name="Freeform 10"/>
          <p:cNvSpPr/>
          <p:nvPr/>
        </p:nvSpPr>
        <p:spPr>
          <a:xfrm>
            <a:off x="6345360" y="1446120"/>
            <a:ext cx="1809720" cy="419040"/>
          </a:xfrm>
          <a:prstGeom prst="pi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sp>
        <p:nvSpPr>
          <p:cNvPr id="76" name="Freeform 7"/>
          <p:cNvSpPr/>
          <p:nvPr/>
        </p:nvSpPr>
        <p:spPr>
          <a:xfrm>
            <a:off x="6064200" y="1847880"/>
            <a:ext cx="2278080" cy="43488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8"/>
          <p:cNvSpPr txBox="1"/>
          <p:nvPr/>
        </p:nvSpPr>
        <p:spPr>
          <a:xfrm>
            <a:off x="762120" y="228600"/>
            <a:ext cx="3343320" cy="21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Wide Latin"/>
              </a:rPr>
              <a:t>Yangt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Wide Latin"/>
              <a:ea typeface="Wide Lati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Wide Latin"/>
              </a:rPr>
              <a:t>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Wide Latin"/>
              <a:ea typeface="Wide Latin"/>
            </a:endParaRPr>
          </a:p>
        </p:txBody>
      </p:sp>
      <p:pic>
        <p:nvPicPr>
          <p:cNvPr id="78" name="Picture 10" descr="2005Yangtze-river-1_lg"/>
          <p:cNvPicPr/>
          <p:nvPr/>
        </p:nvPicPr>
        <p:blipFill>
          <a:blip r:embed="rId2"/>
          <a:stretch/>
        </p:blipFill>
        <p:spPr>
          <a:xfrm>
            <a:off x="-152280" y="2971800"/>
            <a:ext cx="5029200" cy="395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yangze1"/>
          <p:cNvPicPr/>
          <p:nvPr/>
        </p:nvPicPr>
        <p:blipFill>
          <a:blip r:embed="rId3"/>
          <a:stretch/>
        </p:blipFill>
        <p:spPr>
          <a:xfrm>
            <a:off x="5257800" y="3962520"/>
            <a:ext cx="39052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3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ta_disney_large"/>
          <p:cNvPicPr/>
          <p:nvPr/>
        </p:nvPicPr>
        <p:blipFill>
          <a:blip r:embed="rId2"/>
          <a:stretch/>
        </p:blipFill>
        <p:spPr>
          <a:xfrm>
            <a:off x="0" y="4191120"/>
            <a:ext cx="4038480" cy="23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hk2003_517"/>
          <p:cNvPicPr/>
          <p:nvPr/>
        </p:nvPicPr>
        <p:blipFill>
          <a:blip r:embed="rId3"/>
          <a:stretch/>
        </p:blipFill>
        <p:spPr>
          <a:xfrm>
            <a:off x="4343400" y="3687840"/>
            <a:ext cx="4800600" cy="3170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5562720" y="2819520"/>
            <a:ext cx="2590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lackadder ITC"/>
              </a:rPr>
              <a:t>Hong Ko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lackadder ITC"/>
              <a:ea typeface="Blackadder ITC"/>
            </a:endParaRPr>
          </a:p>
        </p:txBody>
      </p:sp>
      <p:grpSp>
        <p:nvGrpSpPr>
          <p:cNvPr id="84" name="Group 16"/>
          <p:cNvGrpSpPr/>
          <p:nvPr/>
        </p:nvGrpSpPr>
        <p:grpSpPr>
          <a:xfrm>
            <a:off x="685800" y="380880"/>
            <a:ext cx="3124080" cy="3276720"/>
            <a:chOff x="685800" y="380880"/>
            <a:chExt cx="3124080" cy="3276720"/>
          </a:xfrm>
        </p:grpSpPr>
        <p:pic>
          <p:nvPicPr>
            <p:cNvPr id="85" name="Picture 13" descr="2005_king_kong_74"/>
            <p:cNvPicPr/>
            <p:nvPr/>
          </p:nvPicPr>
          <p:blipFill>
            <a:blip r:embed="rId4"/>
            <a:stretch/>
          </p:blipFill>
          <p:spPr>
            <a:xfrm>
              <a:off x="1066680" y="685800"/>
              <a:ext cx="2441520" cy="267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Oval 14"/>
            <p:cNvSpPr/>
            <p:nvPr/>
          </p:nvSpPr>
          <p:spPr>
            <a:xfrm>
              <a:off x="685800" y="380880"/>
              <a:ext cx="3124080" cy="3276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1066680" y="990720"/>
              <a:ext cx="2362320" cy="2133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Oval 9"/>
          <p:cNvSpPr/>
          <p:nvPr/>
        </p:nvSpPr>
        <p:spPr>
          <a:xfrm flipH="1">
            <a:off x="7695360" y="2819520"/>
            <a:ext cx="228600" cy="122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14"/>
          <p:cNvGrpSpPr/>
          <p:nvPr/>
        </p:nvGrpSpPr>
        <p:grpSpPr>
          <a:xfrm>
            <a:off x="4531320" y="1573920"/>
            <a:ext cx="1311120" cy="933840"/>
            <a:chOff x="4531320" y="1573920"/>
            <a:chExt cx="1311120" cy="933840"/>
          </a:xfrm>
        </p:grpSpPr>
        <p:sp>
          <p:nvSpPr>
            <p:cNvPr id="91" name="AutoShape 6"/>
            <p:cNvSpPr/>
            <p:nvPr/>
          </p:nvSpPr>
          <p:spPr>
            <a:xfrm rot="540600">
              <a:off x="4773960" y="183492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7"/>
            <p:cNvSpPr/>
            <p:nvPr/>
          </p:nvSpPr>
          <p:spPr>
            <a:xfrm rot="540600">
              <a:off x="4856400" y="198864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8"/>
            <p:cNvSpPr/>
            <p:nvPr/>
          </p:nvSpPr>
          <p:spPr>
            <a:xfrm rot="540600">
              <a:off x="5054040" y="208980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 rot="540600">
              <a:off x="5199480" y="218304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 rot="540600">
              <a:off x="5397480" y="2284920"/>
              <a:ext cx="210600" cy="207360"/>
            </a:xfrm>
            <a:custGeom>
              <a:avLst/>
              <a:gdLst>
                <a:gd name="textAreaLeft" fmla="*/ 86760 w 210600"/>
                <a:gd name="textAreaRight" fmla="*/ 123840 w 21060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 rot="540600">
              <a:off x="4565520" y="180180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2"/>
            <p:cNvSpPr/>
            <p:nvPr/>
          </p:nvSpPr>
          <p:spPr>
            <a:xfrm rot="540600">
              <a:off x="4546080" y="1589040"/>
              <a:ext cx="210600" cy="207360"/>
            </a:xfrm>
            <a:custGeom>
              <a:avLst/>
              <a:gdLst>
                <a:gd name="textAreaLeft" fmla="*/ 86760 w 210600"/>
                <a:gd name="textAreaRight" fmla="*/ 123840 w 21060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3"/>
            <p:cNvSpPr/>
            <p:nvPr/>
          </p:nvSpPr>
          <p:spPr>
            <a:xfrm rot="540600">
              <a:off x="5616360" y="2249280"/>
              <a:ext cx="210960" cy="207360"/>
            </a:xfrm>
            <a:custGeom>
              <a:avLst/>
              <a:gdLst>
                <a:gd name="textAreaLeft" fmla="*/ 86760 w 210960"/>
                <a:gd name="textAreaRight" fmla="*/ 124200 w 210960"/>
                <a:gd name="textAreaTop" fmla="*/ 85320 h 207360"/>
                <a:gd name="textAreaBottom" fmla="*/ 122040 h 20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18" descr="himalayas_india"/>
          <p:cNvPicPr/>
          <p:nvPr/>
        </p:nvPicPr>
        <p:blipFill>
          <a:blip r:embed="rId2"/>
          <a:stretch/>
        </p:blipFill>
        <p:spPr>
          <a:xfrm>
            <a:off x="0" y="3429000"/>
            <a:ext cx="5062680" cy="3227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kzkcel,_trek_adv_b_camp_K_tengri"/>
          <p:cNvPicPr/>
          <p:nvPr/>
        </p:nvPicPr>
        <p:blipFill>
          <a:blip r:embed="rId3"/>
          <a:stretch/>
        </p:blipFill>
        <p:spPr>
          <a:xfrm>
            <a:off x="0" y="0"/>
            <a:ext cx="4343400" cy="28735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1"/>
          <p:cNvSpPr txBox="1"/>
          <p:nvPr/>
        </p:nvSpPr>
        <p:spPr>
          <a:xfrm>
            <a:off x="5105520" y="3581280"/>
            <a:ext cx="40384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malaya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untains a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t. Everes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Isosceles Triangle 14"/>
          <p:cNvSpPr/>
          <p:nvPr/>
        </p:nvSpPr>
        <p:spPr>
          <a:xfrm>
            <a:off x="5334120" y="1905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9966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hinam8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05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esert_house_gobi2"/>
          <p:cNvPicPr/>
          <p:nvPr/>
        </p:nvPicPr>
        <p:blipFill>
          <a:blip r:embed="rId2"/>
          <a:stretch/>
        </p:blipFill>
        <p:spPr>
          <a:xfrm>
            <a:off x="4648320" y="3691080"/>
            <a:ext cx="4495680" cy="316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2128027-Travel_Picture-Camel_in_the_Gobi_Desert"/>
          <p:cNvPicPr/>
          <p:nvPr/>
        </p:nvPicPr>
        <p:blipFill>
          <a:blip r:embed="rId3"/>
          <a:stretch/>
        </p:blipFill>
        <p:spPr>
          <a:xfrm>
            <a:off x="0" y="0"/>
            <a:ext cx="4191120" cy="50292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7"/>
          <p:cNvSpPr txBox="1"/>
          <p:nvPr/>
        </p:nvSpPr>
        <p:spPr>
          <a:xfrm>
            <a:off x="990720" y="5181480"/>
            <a:ext cx="2728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doni MT Poster Compressed"/>
              </a:rPr>
              <a:t>Gobi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doni MT Poster Compressed"/>
              <a:ea typeface="Bodoni MT Poster Compres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odoni MT Poster Compressed"/>
              </a:rPr>
              <a:t>Deser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odoni MT Poster Compressed"/>
              <a:ea typeface="Bodoni MT Poster Compressed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7391520" y="838080"/>
            <a:ext cx="533160" cy="533520"/>
          </a:xfrm>
          <a:custGeom>
            <a:avLst/>
            <a:gdLst>
              <a:gd name="textAreaLeft" fmla="*/ 219600 w 533160"/>
              <a:gd name="textAreaRight" fmla="*/ 313560 w 533160"/>
              <a:gd name="textAreaTop" fmla="*/ 219960 h 533520"/>
              <a:gd name="textAreaBottom" fmla="*/ 313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22:01:51Z</dcterms:created>
  <dc:creator>VUSD</dc:creator>
  <dc:description/>
  <dc:language>en-US</dc:language>
  <cp:lastModifiedBy>San Diego City Schools</cp:lastModifiedBy>
  <dcterms:modified xsi:type="dcterms:W3CDTF">2013-01-10T15:34:26Z</dcterms:modified>
  <cp:revision>93</cp:revision>
  <dc:subject/>
  <dc:title>Slide 1</dc:title>
</cp:coreProperties>
</file>